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AD9-CB90-4299-83A0-B0FFB7CE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7C7-9F47-4954-99D4-74B57EEC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C0F-401A-4328-980A-A59C3F0F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90E-AF6D-4B0E-9383-58B2EF12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1A2-A7A3-4838-9ADD-D162E141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E53-0592-48E0-BFF2-437A207C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789-9BAB-4AD2-B43E-43E76B56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C64-705A-4BBB-8046-73AE4E97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4C6-97B2-4136-BC05-1C59E7BC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F5A-637F-4FB7-BA71-A966FCB4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97C8-49B0-4475-959A-48BB6570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407-A235-44F5-83DB-D2042DA1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CA24-AAEA-4117-9934-4181B6534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ffcc00"/>
                </a:solidFill>
                <a:latin typeface="Comic Sans MS"/>
              </a:rPr>
              <a:t>In principio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1523880" cy="3808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La terra produca germogli, erbe…alberi da frutt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560" y="53352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066680" y="0"/>
            <a:ext cx="10210680" cy="680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TERZ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Ci siano luci nel firmamento del cielo, per distinguere il giorno dalla notte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560" y="53352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QUART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Le acque brulichino di esseri viventi ……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560" y="83808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468360" y="-312840"/>
            <a:ext cx="9612360" cy="7170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“…</a:t>
            </a: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e uccelli volino </a:t>
            </a:r>
            <a:br>
              <a:rPr sz="6000"/>
            </a:br>
            <a:r>
              <a:rPr b="0" lang="it-IT" sz="6000" spc="-1" strike="noStrike">
                <a:solidFill>
                  <a:srgbClr val="ff9933"/>
                </a:solidFill>
                <a:latin typeface="Comic Sans MS"/>
              </a:rPr>
              <a:t>nel ciel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2209680"/>
            <a:ext cx="86104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00"/>
                </a:solidFill>
                <a:latin typeface="Comic Sans MS"/>
              </a:rPr>
              <a:t>E Dio vide c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00"/>
                </a:solidFill>
                <a:latin typeface="Comic Sans MS"/>
              </a:rPr>
              <a:t>era cosa buo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0" spc="-1" strike="noStrike">
                <a:solidFill>
                  <a:srgbClr val="ff3300"/>
                </a:solidFill>
                <a:latin typeface="Comic Sans MS"/>
              </a:rPr>
              <a:t>Dio </a:t>
            </a:r>
            <a:br>
              <a:rPr sz="15000"/>
            </a:br>
            <a:r>
              <a:rPr b="0" lang="it-IT" sz="15000" spc="-1" strike="noStrike">
                <a:solidFill>
                  <a:srgbClr val="ff3300"/>
                </a:solidFill>
                <a:latin typeface="Comic Sans MS"/>
              </a:rPr>
              <a:t>creò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7712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QUINT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2361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La terra produca esseri viventi…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560" y="53352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Dio</a:t>
            </a: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disse</a:t>
            </a: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876920"/>
            <a:ext cx="9144000" cy="21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Comic Sans MS"/>
              </a:rPr>
              <a:t>“…</a:t>
            </a:r>
            <a:r>
              <a:rPr b="0" lang="it-IT" sz="6000" spc="-1" strike="noStrike">
                <a:solidFill>
                  <a:srgbClr val="ff0000"/>
                </a:solidFill>
                <a:latin typeface="Comic Sans MS"/>
              </a:rPr>
              <a:t>bestiame, rettili e bestie selvatiche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-4343400" y="4952880"/>
            <a:ext cx="15621120" cy="2133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0000"/>
                </a:solidFill>
                <a:latin typeface="Comic Sans MS"/>
              </a:rPr>
              <a:t>E Dio vide ch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0" spc="-1" strike="noStrike">
                <a:solidFill>
                  <a:srgbClr val="ff0000"/>
                </a:solidFill>
                <a:latin typeface="Comic Sans MS"/>
              </a:rPr>
              <a:t>era cosa buo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61920"/>
            <a:ext cx="9753840" cy="6981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Facciamo l’uomo a nostra immagine, a nostra somiglianza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560" y="83808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990033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a immagine di Dio lo creò</a:t>
            </a:r>
            <a:br>
              <a:rPr sz="5400"/>
            </a:b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maschio e femmina li cre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60" y="528480"/>
            <a:ext cx="7681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Dio cre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Comic Sans MS"/>
              </a:rPr>
              <a:t>l’uomo a sua immag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così avven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828800"/>
            <a:ext cx="8610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io vide quanto aveva fatto, ed ecco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191120"/>
            <a:ext cx="8610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ra cosa MOLTO buo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825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SEST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504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cessò da ogni suo lavo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1840" y="685800"/>
            <a:ext cx="898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io nel settimo giorno…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8880" y="685800"/>
            <a:ext cx="865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Dio benedisse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il settimo gior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8880" y="2895480"/>
            <a:ext cx="865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9933"/>
                </a:solidFill>
                <a:latin typeface="Comic Sans MS"/>
              </a:rPr>
              <a:t>perché in esso aveva cessato da ogni lavoro che egli creando aveva fat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200" spc="-1" strike="noStrike">
                <a:solidFill>
                  <a:srgbClr val="ffcc00"/>
                </a:solidFill>
                <a:latin typeface="Comic Sans MS"/>
              </a:rPr>
              <a:t>..il cielo e 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it-IT" sz="7200" spc="-1" strike="noStrike">
                <a:solidFill>
                  <a:srgbClr val="ffcc00"/>
                </a:solidFill>
                <a:latin typeface="Comic Sans MS"/>
              </a:rPr>
              <a:t>                    la terr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77120"/>
            <a:ext cx="1523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75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disse:</a:t>
            </a:r>
            <a:br>
              <a:rPr sz="6000"/>
            </a:b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 “Sia la luce!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50292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ff3300"/>
                </a:solidFill>
                <a:latin typeface="Comic Sans MS"/>
              </a:rPr>
              <a:t>E la luce fu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742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vide che la luce era buo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PRIM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disse: “Sia il firmament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9718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chiamò il firmamento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510552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ff3300"/>
                </a:solidFill>
                <a:latin typeface="Comic Sans MS"/>
              </a:rPr>
              <a:t>CIEL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95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6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Comic Sans MS"/>
              </a:rPr>
              <a:t>E fu sera e fu mattina:</a:t>
            </a:r>
            <a:br>
              <a:rPr sz="6000"/>
            </a:br>
            <a:br>
              <a:rPr sz="6000"/>
            </a:b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SECONDO GIOR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“</a:t>
            </a: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Le acque che sono sotto il cielo, si raccolgano in un solo luogo e appaia l’asciutto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560" y="533520"/>
            <a:ext cx="362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3300"/>
                </a:solidFill>
                <a:latin typeface="Comic Sans MS"/>
              </a:rPr>
              <a:t>Dio disse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9:43:07Z</dcterms:created>
  <dc:creator>Stefano</dc:creator>
  <dc:description/>
  <dc:language>en-US</dc:language>
  <cp:lastModifiedBy>.</cp:lastModifiedBy>
  <dcterms:modified xsi:type="dcterms:W3CDTF">2006-10-18T07:01:29Z</dcterms:modified>
  <cp:revision>29</cp:revision>
  <dc:subject/>
  <dc:title>In principio……</dc:title>
</cp:coreProperties>
</file>